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pct" ContentType="image/x-pict"/>
  <Override PartName="/ppt/media/image7.jpeg" ContentType="image/jpeg"/>
  <Override PartName="/ppt/media/image11.jpeg" ContentType="image/jpeg"/>
  <Override PartName="/ppt/media/image9.jpeg" ContentType="image/jpeg"/>
  <Override PartName="/ppt/media/image20.pct" ContentType="image/x-pict"/>
  <Override PartName="/ppt/media/image19.jpeg" ContentType="image/jpeg"/>
  <Override PartName="/ppt/media/image18.jpeg" ContentType="image/jpeg"/>
  <Override PartName="/ppt/media/image17.jpeg" ContentType="image/jpeg"/>
  <Override PartName="/ppt/media/image14.pct" ContentType="image/x-pict"/>
  <Override PartName="/ppt/media/image5.jpeg" ContentType="image/jpeg"/>
  <Override PartName="/ppt/media/image15.png" ContentType="image/png"/>
  <Override PartName="/ppt/media/image3.jpeg" ContentType="image/jpeg"/>
  <Override PartName="/ppt/media/image12.pct" ContentType="image/x-pict"/>
  <Override PartName="/ppt/media/image1.png" ContentType="image/png"/>
  <Override PartName="/ppt/media/image4.jpeg" ContentType="image/jpeg"/>
  <Override PartName="/ppt/media/image2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6D49-A25F-4F1F-8E93-1532F28F3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4745-AC38-4EC4-B4F2-6140DC1C54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FC95-F8AB-4D92-9FD3-A6444ADEA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9F46-4C6C-4E07-B711-9261E695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6281-E1ED-4AA0-BCBA-B8C1215BC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B905-E30A-4F16-A662-A00A7CD58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2B30-D9CC-4045-B0BA-5E9126C5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C2FC-2165-4212-8E76-6D6129C0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CFAA-F1C9-47FD-B0C7-F55395DF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7B4B-17D1-4EB6-946F-45A286D8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6A76-A70B-4DCD-BE46-081FC1F9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B8D9-2C8D-4073-9766-2F4C6836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B20E-56E9-4DC2-9FEF-CBA99D62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EBD1-9546-4635-A2CA-4B1AD70B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F052-F223-4587-941B-F4E5B3B9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0C65-048D-41C1-987D-B8F0A02F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808F-E6E2-4828-B1EC-78BA51D1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9520-55BD-4728-98BD-9D8690008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86C2-5C11-43F9-8D96-4F40F8172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D25CD-C77A-4456-A569-A8F199CAE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C7B1C-3758-496C-9288-331F0D10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AFF41-E543-4B43-BFE4-AB24D07E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8B5D4-3616-4D59-A88E-B6B7C1D7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D60DC-261A-4CE9-8A7F-729FA1BB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1952-4B4B-466F-BEE9-C822F81F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6EAFB-32D6-43E3-8E79-79FE4582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4380F-242F-4816-B789-AA766AF7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0DDF8-6E7E-4535-BC30-DE479F39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25789-87F2-4D29-9E77-10E701E4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ECAEB-77D6-4F25-8498-FB6500DE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C2B98-2E9F-4070-86B6-2622410FC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8A223-740B-44E5-8B42-E41CD024B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A3D31-5EE8-4EE2-8BAE-FE8E5226D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9E477-4053-457C-A401-9B10D683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B1953-F5CB-4AC6-9F27-8182BF61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2120-5DB3-4F2D-BAD1-93537271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FCC28-3CC0-4152-A615-BFF9998D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45650-152B-489E-A932-307E3057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47A52-0659-41C1-AAEE-F2035C14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754D3-7249-4E04-8FA5-B9733B16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97F50-7DEC-440C-A4C2-9D4437B5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6E76B-5CD3-488B-ABC2-6862E8E9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BB6F7-5D9B-4D27-A600-D2C619C2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546C1-44D9-4B3D-B331-8C2375297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3DCC5-C3FE-4066-8483-6B98C73A7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FCF7-CB4D-45FD-AEBB-42B349A4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ED61-77DD-4DD6-9DC4-A69C0B37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BA0D-CA1A-4CD7-B3FA-B30824CF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838C-3FFF-456B-B432-DE6FA771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EEB0-3F75-49DB-82F5-705ED5F7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2120" y="152280"/>
            <a:ext cx="7696080" cy="1067040"/>
            <a:chOff x="762120" y="152280"/>
            <a:chExt cx="7696080" cy="1067040"/>
          </a:xfrm>
        </p:grpSpPr>
        <p:sp>
          <p:nvSpPr>
            <p:cNvPr id="1" name=""/>
            <p:cNvSpPr/>
            <p:nvPr/>
          </p:nvSpPr>
          <p:spPr>
            <a:xfrm>
              <a:off x="762120" y="152280"/>
              <a:ext cx="7696080" cy="10670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3939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81720" y="1219320"/>
              <a:ext cx="72432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685800" y="1371600"/>
            <a:ext cx="7772400" cy="304920"/>
            <a:chOff x="685800" y="1371600"/>
            <a:chExt cx="7772400" cy="304920"/>
          </a:xfrm>
        </p:grpSpPr>
        <p:sp>
          <p:nvSpPr>
            <p:cNvPr id="4" name=""/>
            <p:cNvSpPr/>
            <p:nvPr/>
          </p:nvSpPr>
          <p:spPr>
            <a:xfrm>
              <a:off x="685800" y="1371600"/>
              <a:ext cx="7772400" cy="30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5611"/>
                </a:gs>
                <a:gs pos="50000">
                  <a:srgbClr val="ff7518"/>
                </a:gs>
                <a:gs pos="100000">
                  <a:srgbClr val="bc5611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828720" y="1390320"/>
              <a:ext cx="7496280" cy="46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E5AE-CF05-42F8-B0DE-976C79911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62120" y="1676520"/>
            <a:ext cx="7696080" cy="1675800"/>
            <a:chOff x="762120" y="1676520"/>
            <a:chExt cx="7696080" cy="1675800"/>
          </a:xfrm>
        </p:grpSpPr>
        <p:sp>
          <p:nvSpPr>
            <p:cNvPr id="50" name=""/>
            <p:cNvSpPr/>
            <p:nvPr/>
          </p:nvSpPr>
          <p:spPr>
            <a:xfrm>
              <a:off x="762120" y="1676520"/>
              <a:ext cx="7696080" cy="16758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3939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81720" y="3352320"/>
              <a:ext cx="72432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85800" y="3505320"/>
            <a:ext cx="7772400" cy="304560"/>
            <a:chOff x="685800" y="3505320"/>
            <a:chExt cx="7772400" cy="304560"/>
          </a:xfrm>
        </p:grpSpPr>
        <p:sp>
          <p:nvSpPr>
            <p:cNvPr id="53" name=""/>
            <p:cNvSpPr/>
            <p:nvPr/>
          </p:nvSpPr>
          <p:spPr>
            <a:xfrm>
              <a:off x="685800" y="3505320"/>
              <a:ext cx="7772400" cy="30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5611"/>
                </a:gs>
                <a:gs pos="50000">
                  <a:srgbClr val="ff7518"/>
                </a:gs>
                <a:gs pos="100000">
                  <a:srgbClr val="bc5611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828720" y="3522960"/>
              <a:ext cx="7496280" cy="45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6290-0EE2-4D92-91FC-848F6D80A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99F6-E2BC-4BAF-B44D-B34C7AB8CE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1B20-34E0-4B9B-B764-CECAF440B6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ct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The Rise and Fall of the Roman Empire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Roman Citizenship (P)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ans had a strong sense of citizenshi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an citizens were protected by Rome, but had a duty to participate in society and to make it bett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hilosophy that preached good citizenship was called Stoicis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icism stressed the importance of being a good citiz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8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8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Roman Law and Rights (P)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an laws stressed fairness and common sen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was equal treatment under the law in Rome and people were considered innocent until proved guilty when accused of a cr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took much of our system of government from the Roman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Rome’s first emperor (P)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avian is Rome’s first emper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took the name Augustus Caes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 his rule, Rome expanded and enjoyed a period of peace.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187960" y="1828800"/>
            <a:ext cx="273060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Pax Romana (P)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e lived in peace for 200 y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called the Pax Romana, the Peace of Rome. Unfortunately for Rome, the peace would not l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Rome’s Economy 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man </a:t>
            </a:r>
            <a:r>
              <a:rPr b="0" lang="en-US" sz="3200" spc="-1" strike="noStrike">
                <a:solidFill>
                  <a:srgbClr val="0046af"/>
                </a:solidFill>
                <a:latin typeface="Arial"/>
              </a:rPr>
              <a:t>tra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he engine that drove the </a:t>
            </a:r>
            <a:r>
              <a:rPr b="0" lang="en-US" sz="3200" spc="-1" strike="noStrike">
                <a:solidFill>
                  <a:srgbClr val="0046af"/>
                </a:solidFill>
                <a:latin typeface="Arial"/>
              </a:rPr>
              <a:t>Roman econom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late </a:t>
            </a:r>
            <a:r>
              <a:rPr b="0" lang="en-US" sz="3200" spc="-1" strike="noStrike">
                <a:solidFill>
                  <a:srgbClr val="0046af"/>
                </a:solidFill>
                <a:latin typeface="Arial"/>
              </a:rPr>
              <a:t>Republi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 early </a:t>
            </a:r>
            <a:r>
              <a:rPr b="0" lang="en-US" sz="3200" spc="-1" strike="noStrike">
                <a:solidFill>
                  <a:srgbClr val="0046af"/>
                </a:solidFill>
                <a:latin typeface="Arial"/>
              </a:rPr>
              <a:t>Empi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590920" y="3733920"/>
            <a:ext cx="3797280" cy="2133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Rome’s Social Clas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e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ricians-Upper Class (nobility and wealthy landown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beians (well-to-do tradesmen all the way down to the very po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Rome grew weak (P)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me grew weak because it had grown too lar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reason Rome grew weak is that they had tax problems and couldn’t raise enough money to keep the roads from crumb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avery was also a problem in the empire. With so many slaves, the people did not need to wor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 problems that helped R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ownfall were corrupt generals, civil wars, and economic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518"/>
                </a:solidFill>
                <a:latin typeface="Arial"/>
              </a:rPr>
              <a:t>Barbarians at the gates (P)</a:t>
            </a:r>
            <a:endParaRPr b="0" lang="en-US" sz="40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mans called the people who destroyed Rome Barbari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mans called anyone who didn’t speak Greek, even though the word barbarian actually means uncivilized, lacking in culture and viol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oman Empire fell in 476 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astern part of the empire would surv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STOP DO NOT GO ON!!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518"/>
                </a:solidFill>
                <a:latin typeface="Arial"/>
              </a:rPr>
              <a:t>Byzantium (G)</a:t>
            </a:r>
            <a:endParaRPr b="0" lang="en-US" sz="36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astern part of the Roman Empire became known as the Byzantine Empire or Byzantiu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914400" y="2819520"/>
            <a:ext cx="7467480" cy="3921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onstantinople (P)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343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inople was named for emperor Constant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ine was important because  he legalized Christianity in the empi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 Constantine’s rule, Christianity spread great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moved the capital of the empire from Rome to Constantinopl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5257800" y="1752480"/>
            <a:ext cx="3009960" cy="4876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The Roman Empire at its Height (G)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oman Empire became hu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covered most of Europe, North Africa, and some of 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mpire reached its height under Emperor Diocletian (284-305 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8" descr="http://wps.ablongman.com/wps/media/objects/262/268312/art/figures/KISH_06_131.gif"/>
          <p:cNvPicPr/>
          <p:nvPr/>
        </p:nvPicPr>
        <p:blipFill>
          <a:blip r:embed="rId2"/>
          <a:stretch/>
        </p:blipFill>
        <p:spPr>
          <a:xfrm>
            <a:off x="457200" y="2514600"/>
            <a:ext cx="4038480" cy="3760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onstantinople grows (E)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antinople became a leading center of tr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e helped the Byzantine Empire grow ri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3886200" y="2514600"/>
            <a:ext cx="4724280" cy="35751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Justinian (P)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inian was the greatest of the Byzantine emper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inian made many changes in the law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 laws were called The Code of Justini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inian also built many churches throughout the empi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948200" y="1828800"/>
            <a:ext cx="320832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Disagreements between east and wes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of the people in the Byzantine Empire were Christian, but the people in the west and the people in the east disagreed about how to worship G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led to a split in the Catholic Church. It was called a sch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ism is a split. The Roman Catholic Church had a schism, splitting in ha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3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8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3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Two churches ( R)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urch in the east was called Eastern Orthodo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urch in the west was called Roman Cathol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95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00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518"/>
                </a:solidFill>
                <a:latin typeface="Arial"/>
              </a:rPr>
              <a:t>Patriarch ( R)</a:t>
            </a:r>
            <a:endParaRPr b="0" lang="en-US" sz="36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der of the church in Constantinople was called the Patriarc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5092560" y="1828800"/>
            <a:ext cx="292104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onstantinople is captured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lit in the church weakened the Byzantine Empi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453, the Ottoman Turks captured Constantinople and the Byzantine Empire came to an en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1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6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The Byzantine Empire preserves great stuff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yzantine Empire preserved the art and literature of the Greeks and Roma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 the Byzantine, the world may have lost great treasures of the p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Rise of Christianity ( R)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594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cient Romans believed in Myth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istianity spread in 300s when Constantine became a Christi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de Christianity the official religion of the emp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der of the church in Rome was called the Po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hurch in the west was called Roman Cathol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729480" y="3733920"/>
            <a:ext cx="2109600" cy="2334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Rome built great stuff (A)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e built  great roads to travel on and aqueducts to bring water into the 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e also built great stadiums and amphitheaters for the entertainment of the peo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ans also developed the use of the arc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572000" y="2286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304920" y="3429000"/>
            <a:ext cx="3809880" cy="28605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4800600" y="3505320"/>
            <a:ext cx="3505320" cy="29937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Roman Art (A)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aics were popular in Rome. A mosaic is a picture made out of small, colored tiles or pieces of g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omans also made great statues that looked like the real thing, even though they were made from ston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3810240" cy="19814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800600" y="380880"/>
            <a:ext cx="3809880" cy="1981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09480" y="2819520"/>
            <a:ext cx="2772000" cy="3276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3962520" y="3048120"/>
            <a:ext cx="4724280" cy="2457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Rome was a Republic (P)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public is a form of government where people elect representati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nited States has a representative government. We learned about this form of government from the Roman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The Senate (P)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nate led the Roman Emp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made the laws for the republi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648320" y="2262240"/>
            <a:ext cx="3809880" cy="3627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6:31:18Z</dcterms:created>
  <dc:creator>Jeff Kash</dc:creator>
  <dc:description/>
  <cp:keywords/>
  <dc:language>en-US</dc:language>
  <cp:lastModifiedBy>San Diego City Schools</cp:lastModifiedBy>
  <dcterms:modified xsi:type="dcterms:W3CDTF">2012-01-12T18:55:12Z</dcterms:modified>
  <cp:revision>28</cp:revision>
  <dc:subject/>
  <dc:title>PowerPoint Presentation  -  The Rise and Fall of the Roman Empire</dc:title>
</cp:coreProperties>
</file>